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57F-E8EB-47EC-9165-68ADC1E8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190-BB18-41F4-953A-D65F9964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1B7-8CAC-4629-AD38-1EB5DBE0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E1A-5F65-4F95-8022-017D1BBA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329-25A4-476E-984D-DC2D41CF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ADD-631F-4C4A-B2B8-FE274BFB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AFC-93B0-48B1-9F1C-6C328D41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D6D-25D8-4282-B05F-8B00081D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E49-9DA1-42DA-B6D6-90C1FB3C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D35-6D5E-4483-A5CD-56153E57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C66-5F85-4070-A393-EB0290AC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6EF-DCA4-44AC-A333-6BD673D1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2704-E608-47FD-A740-366518333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Disch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Discharge9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Discharge10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AdultDischarge11.jpg"/>
          <p:cNvPicPr/>
          <p:nvPr/>
        </p:nvPicPr>
        <p:blipFill>
          <a:blip r:embed="rId1"/>
          <a:stretch/>
        </p:blipFill>
        <p:spPr>
          <a:xfrm>
            <a:off x="766800" y="819000"/>
            <a:ext cx="76104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AdultDischarge12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AdultDischarge1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Discharge1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Discharge2.jpg"/>
          <p:cNvPicPr/>
          <p:nvPr/>
        </p:nvPicPr>
        <p:blipFill>
          <a:blip r:embed="rId1"/>
          <a:stretch/>
        </p:blipFill>
        <p:spPr>
          <a:xfrm>
            <a:off x="771480" y="838080"/>
            <a:ext cx="7601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dultDischarge3.jpg"/>
          <p:cNvPicPr/>
          <p:nvPr/>
        </p:nvPicPr>
        <p:blipFill>
          <a:blip r:embed="rId1"/>
          <a:stretch/>
        </p:blipFill>
        <p:spPr>
          <a:xfrm>
            <a:off x="771480" y="833400"/>
            <a:ext cx="7601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Discharge4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Discharge5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Discharge6.jpg"/>
          <p:cNvPicPr/>
          <p:nvPr/>
        </p:nvPicPr>
        <p:blipFill>
          <a:blip r:embed="rId1"/>
          <a:stretch/>
        </p:blipFill>
        <p:spPr>
          <a:xfrm>
            <a:off x="771480" y="824040"/>
            <a:ext cx="7601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Discharge7.jpg"/>
          <p:cNvPicPr/>
          <p:nvPr/>
        </p:nvPicPr>
        <p:blipFill>
          <a:blip r:embed="rId1"/>
          <a:stretch/>
        </p:blipFill>
        <p:spPr>
          <a:xfrm>
            <a:off x="757080" y="828720"/>
            <a:ext cx="76298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Discharge8.jpg"/>
          <p:cNvPicPr/>
          <p:nvPr/>
        </p:nvPicPr>
        <p:blipFill>
          <a:blip r:embed="rId1"/>
          <a:stretch/>
        </p:blipFill>
        <p:spPr>
          <a:xfrm>
            <a:off x="757080" y="833400"/>
            <a:ext cx="76298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8:43:52Z</dcterms:created>
  <dc:creator>zcui</dc:creator>
  <dc:description/>
  <dc:language>en-US</dc:language>
  <cp:lastModifiedBy>rbalne</cp:lastModifiedBy>
  <dcterms:modified xsi:type="dcterms:W3CDTF">2009-08-12T13:56:45Z</dcterms:modified>
  <cp:revision>1</cp:revision>
  <dc:subject/>
  <dc:title>TRAC</dc:title>
</cp:coreProperties>
</file>